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AA43-6824-4E74-9930-B5EFAB09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979-E59C-42F0-998C-00DAF511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9A6-1E5E-4883-9FEA-1E8A74D2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D1A-481A-48CA-97F6-6903C89D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AD3-E4F9-4DE1-A66C-0C14C9B6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376-716B-4590-9855-48E987F0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723-7491-4E0B-AEA2-F0147143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851-1874-4A23-9315-A0F8B864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EB8-52B1-4A34-8C3C-9E53721D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235-7C4E-4190-9F0F-DE665557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438-170B-4E76-8F74-D40D2E8A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27BD-31AB-4390-AEDC-79E97675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F060-FC66-4F7E-942A-5DCE2AE78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Нот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жду третьей и второ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ы окошечко откро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-ля-ля, тра-ля-л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есь живёт нота «Ля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3" descr="Ля.jpg"/>
          <p:cNvPicPr/>
          <p:nvPr/>
        </p:nvPicPr>
        <p:blipFill>
          <a:blip r:embed="rId1"/>
          <a:stretch/>
        </p:blipFill>
        <p:spPr>
          <a:xfrm>
            <a:off x="2556000" y="2781360"/>
            <a:ext cx="46926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та «Си» попола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елила нотный стан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линейке номер тр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елилась нота «М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5" descr="Ля, си.jpg"/>
          <p:cNvPicPr/>
          <p:nvPr/>
        </p:nvPicPr>
        <p:blipFill>
          <a:blip r:embed="rId1"/>
          <a:stretch/>
        </p:blipFill>
        <p:spPr>
          <a:xfrm>
            <a:off x="1619280" y="2708280"/>
            <a:ext cx="6453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 но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3" descr="До, ре, ми, фа, соль, ля, си - цвет.jpg"/>
          <p:cNvPicPr/>
          <p:nvPr/>
        </p:nvPicPr>
        <p:blipFill>
          <a:blip r:embed="rId1"/>
          <a:stretch/>
        </p:blipFill>
        <p:spPr>
          <a:xfrm>
            <a:off x="611280" y="2349360"/>
            <a:ext cx="81979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а нота есть в гуляк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в каляке, и в маляк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землянике на полянк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еще в стеклянной склян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ты играют в пря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ягуш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кир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ре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т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добавочной линейк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о» сидит, как на скамей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8" descr="До - копия.jpg"/>
          <p:cNvPicPr/>
          <p:nvPr/>
        </p:nvPicPr>
        <p:blipFill>
          <a:blip r:embed="rId1"/>
          <a:stretch/>
        </p:blipFill>
        <p:spPr>
          <a:xfrm>
            <a:off x="826920" y="1557360"/>
            <a:ext cx="7812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786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же всех под нотоносцем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елилась нота «Ре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ычит на всех сердит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то Рексик в кон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3" descr="До, ре.jpg"/>
          <p:cNvPicPr/>
          <p:nvPr/>
        </p:nvPicPr>
        <p:blipFill>
          <a:blip r:embed="rId1"/>
          <a:stretch/>
        </p:blipFill>
        <p:spPr>
          <a:xfrm>
            <a:off x="900000" y="2205000"/>
            <a:ext cx="7891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34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линейке перво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та «Ми» живё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ло улыбается. Песенки поё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4" descr="До, ре, ми - копия.jpg"/>
          <p:cNvPicPr/>
          <p:nvPr/>
        </p:nvPicPr>
        <p:blipFill>
          <a:blip r:embed="rId1"/>
          <a:stretch/>
        </p:blipFill>
        <p:spPr>
          <a:xfrm>
            <a:off x="900000" y="2421000"/>
            <a:ext cx="77612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ты До, Ре, 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До, ре, ми - цветн. - копия.jpg"/>
          <p:cNvPicPr/>
          <p:nvPr/>
        </p:nvPicPr>
        <p:blipFill>
          <a:blip r:embed="rId1"/>
          <a:stretch/>
        </p:blipFill>
        <p:spPr>
          <a:xfrm>
            <a:off x="900000" y="2048040"/>
            <a:ext cx="770436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дрес ноты «Фа» простой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жду первой и второ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Фа» стоит между линее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посту как часов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3" descr="Фа.jpg"/>
          <p:cNvPicPr/>
          <p:nvPr/>
        </p:nvPicPr>
        <p:blipFill>
          <a:blip r:embed="rId1"/>
          <a:stretch/>
        </p:blipFill>
        <p:spPr>
          <a:xfrm>
            <a:off x="2411280" y="2852640"/>
            <a:ext cx="558036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та «соль» сказала деловито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реди нот я очень знаменита!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второй линейке я сижу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 скрипичным ключиком друж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3" descr="Соль.jpg"/>
          <p:cNvPicPr/>
          <p:nvPr/>
        </p:nvPicPr>
        <p:blipFill>
          <a:blip r:embed="rId1"/>
          <a:stretch/>
        </p:blipFill>
        <p:spPr>
          <a:xfrm>
            <a:off x="2484360" y="2741760"/>
            <a:ext cx="481644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 – соль, фа – соль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и выросла фасо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Фа, соль.jpg"/>
          <p:cNvPicPr/>
          <p:nvPr/>
        </p:nvPicPr>
        <p:blipFill>
          <a:blip r:embed="rId1"/>
          <a:stretch/>
        </p:blipFill>
        <p:spPr>
          <a:xfrm>
            <a:off x="1187280" y="1844640"/>
            <a:ext cx="70567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ять н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5" descr="До, ре, ми, фа, соль - цвет.jpg"/>
          <p:cNvPicPr/>
          <p:nvPr/>
        </p:nvPicPr>
        <p:blipFill>
          <a:blip r:embed="rId1"/>
          <a:stretch/>
        </p:blipFill>
        <p:spPr>
          <a:xfrm>
            <a:off x="457200" y="2525760"/>
            <a:ext cx="82296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7:47:17Z</dcterms:created>
  <dc:creator>Admin</dc:creator>
  <dc:description/>
  <dc:language>en-US</dc:language>
  <cp:lastModifiedBy>Анна</cp:lastModifiedBy>
  <dcterms:modified xsi:type="dcterms:W3CDTF">2013-06-02T19:04:34Z</dcterms:modified>
  <cp:revision>25</cp:revision>
  <dc:subject/>
  <dc:title>Слайд 1</dc:title>
</cp:coreProperties>
</file>